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88B-C5B4-47EF-A2B4-D714A676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7E6-C1A3-4A7C-B863-E6675BAB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77E-FB02-4C2E-9274-B11B7921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277-2480-4DAA-BEF2-08490C03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472F-A2F6-42A1-B8F6-0529A749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F2FD-9223-42A6-B9DE-6EC266E6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16D1-3F27-4FC2-9FF0-52CCAB95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9C66-4C4B-4A15-BE0C-5BFC32F2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962B-9AD3-4BC6-8FA5-37D91E5B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55B8-E7DE-4063-A01F-6BBAAC7D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6FBE-AB1D-474B-86C0-EF34503E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86B-80A6-4A4D-AAB6-F782D760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2633-C53F-4C51-817F-AAF66686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1DDC-D68F-491A-95AB-E0C8FB45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ED79-4C83-4F27-B49F-28C82174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2342-9C9B-4B13-979B-63AE274B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5568-5E7E-4D92-9AAB-E8C7B927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433-A41B-40BC-B5D4-BA6C967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15E-034A-4B33-9406-F209449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846-EFDF-4353-8C97-9B659CD6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846-D0BA-48D3-A62B-E2CC3289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3B7-D8A7-457A-A5BB-8C3CCB5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8B2-EA5B-4063-AA26-94944072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693-47B3-4158-A009-845B27E0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1B3A-CB91-4316-9846-DDD3F29AF5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CC5A-3FAE-46C0-8488-3450E3AC23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is-lab.is.s.u-tokyo.ac.jp/~nis/CG/cgtxt/cg5/zu523ab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is-lab.is.s.u-tokyo.ac.jp/~nis/CG/cgtxt/cg5/zu523bb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is-lab.is.s.u-tokyo.ac.jp/~nis/CG/cgtxt/cg5/zu523cb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3chromeballs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olygon Rendering Method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uraud Sh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2419200"/>
            <a:ext cx="7467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URA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2767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648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STANT SH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}5.23 (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98108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URA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}5.23 (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209680"/>
            <a:ext cx="4191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}5.23 (c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05740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URA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620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 u="sng">
                <a:solidFill>
                  <a:srgbClr val="ffffff"/>
                </a:solidFill>
                <a:uFillTx/>
                <a:latin typeface="Arial"/>
              </a:rPr>
              <a:t>Rendering 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is the process of generating an image from a mod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Where  model refers to description of three dimensional objects in a strictly defined language or data structure. It would contain geometry, viewpoint, texture and lighting inform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mage is a digital image or raster graphics im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238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y 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illumination based rendering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Three spheres, that reflect off the floor and each oth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12408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y traced image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eye, view window, and the  world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77120" cy="2971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144800" y="4724280"/>
            <a:ext cx="452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ewpoint -&gt;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y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 -&gt; objects that you want  to r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ew wind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n which we draw the sce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acing rays from the light source to the eye. Lots of rays are wasted because they never reach the eye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7391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e trace a new ray from each ray-object intersection directly towards the light source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1818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ygon Rendering Metho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 intensity shading (Flat shad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uraud sh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g sh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at sh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dering objects with polygon surfa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intensity is calculated for each poly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oints over the surface of the polygon are then displayed with same intensity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AT SH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AT SH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029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AT SH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257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AT SHA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543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uraud shading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ty interpolation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ders a polygon surface by linearly interpolating intensity across the su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-&gt;removes intensity discontinu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-&gt;bright or dark intensity streaks appear on the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SET</cp:lastModifiedBy>
  <dcterms:modified xsi:type="dcterms:W3CDTF">2006-11-23T04:51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