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9.jpeg" ContentType="image/jpeg"/>
  <Override PartName="/ppt/media/image18.png" ContentType="image/pn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1.jpeg" ContentType="image/jpeg"/>
  <Override PartName="/ppt/media/image33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D21-7CD9-4631-873D-C0C320D0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365-E7AB-4975-8BF7-2010333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EE0-A1CE-4750-A24A-74145DE1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97E-1C20-4291-959A-68EB02F9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599-4AF2-410F-93D9-4D51DCCE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8BEA-6450-49C0-B656-849133A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95A8-9255-48E6-A767-E51F134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AD57-425A-4A09-BD53-AA749DA4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561-1C16-4B2E-97AB-61431591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3EAE-66C2-4C7E-B7A3-1A0B63F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B860-CC21-44E6-A89B-53E4F46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F63-9E39-424C-96F0-1B142D4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0AED-D7C6-433C-8386-EC9557E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2E21-C0AA-4453-9339-9C88476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FD0-2705-4926-82C3-7D603984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854-6D36-49C8-922E-5B86A391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934-0C39-4255-BC55-6257DAA7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EE4-461D-4270-83B2-C1449D54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212-4B56-4062-81D1-54949592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4D5-7105-43FB-9D84-3A3D350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AA2-4414-45A9-9FE3-03AEFC9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32C-4803-4AD4-B8D9-A492C46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35A-EE29-4BCD-A569-F33A3B6C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AD0-F210-4496-B4D0-EC3B7C5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8746-8FE4-4219-89F2-827C6E0CF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AB5C-B7E1-4C69-8A5B-78226CE22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as.gwu.edu/~sibert/cs185/notes/Raycasting1.gif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asic </a:t>
            </a:r>
            <a:r>
              <a:rPr b="0" lang="en-US" sz="5400" spc="-1" strike="noStrike">
                <a:solidFill>
                  <a:srgbClr val="ccecff"/>
                </a:solidFill>
                <a:latin typeface="Symbol"/>
                <a:ea typeface="Symbol"/>
              </a:rPr>
              <a:t>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lumination mode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86000" y="3661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iffuse Refle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20560" y="1600200"/>
          <a:ext cx="8102880" cy="5257440"/>
        </p:xfrm>
        <a:graphic>
          <a:graphicData uri="http://schemas.openxmlformats.org/drawingml/2006/table">
            <a:tbl>
              <a:tblPr/>
              <a:tblGrid>
                <a:gridCol w="4476960"/>
                <a:gridCol w="3625920"/>
              </a:tblGrid>
              <a:tr h="52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ugh surfaces consist of a large number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of different specularly-reflecting planes.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sible light reflects diffusely from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pap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              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819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743040" y="1606680"/>
          <a:ext cx="7657920" cy="3646440"/>
        </p:xfrm>
        <a:graphic>
          <a:graphicData uri="http://schemas.openxmlformats.org/drawingml/2006/table">
            <a:tbl>
              <a:tblPr/>
              <a:tblGrid>
                <a:gridCol w="4438440"/>
                <a:gridCol w="3219480"/>
              </a:tblGrid>
              <a:tr h="36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7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5728320"/>
            <a:ext cx="164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water is still ,the reflection is spec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e water flows the image blu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4040" y="61200"/>
            <a:ext cx="86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ecular versus Diffuse Refle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81040" y="1143000"/>
          <a:ext cx="7981920" cy="5257440"/>
        </p:xfrm>
        <a:graphic>
          <a:graphicData uri="http://schemas.openxmlformats.org/drawingml/2006/table">
            <a:tbl>
              <a:tblPr/>
              <a:tblGrid>
                <a:gridCol w="2660760"/>
                <a:gridCol w="2660400"/>
                <a:gridCol w="2660760"/>
              </a:tblGrid>
              <a:tr h="52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7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at kind of reflections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ount for the column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light reflected off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e water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at would we see on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e water if it were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fectly flat, unmoving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7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6560" y="2171880"/>
            <a:ext cx="2371680" cy="2714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058080" y="2171880"/>
            <a:ext cx="2371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asic illumination mode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90720" y="577800"/>
            <a:ext cx="73152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luminatio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l the interaction of light with the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bes properties of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gh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2134800"/>
            <a:ext cx="792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Illumin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= direct illumination - considers light traveling directly from source to surf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bal Illumin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= indirect illumination - takes into account reflection of light from other surfa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umination mode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bient l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04920" y="144792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80880" y="2157480"/>
            <a:ext cx="8458200" cy="4471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bient L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om with pleasant ambient l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bient Ligh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ed intensity , I = ka 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a  -&gt;intensity of ambient ligh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ka -&gt; = reflection coefficien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ight Source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ght emitting 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ght reflecting 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use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523880"/>
          <a:ext cx="7772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use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of viewing posi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urface is exposed only to ambient light ,the intensity of the diffuse reflection at any point is given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mbdiff = Kd 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 -&gt; Coefficient of diffused ref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 -&gt; Intensity of ambient l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60948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surface is exposed only to point light ,the intensity of the diffuse reflection at any point is given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,diff = Kd </a:t>
            </a:r>
            <a:r>
              <a:rPr b="1" lang="en-US" sz="3600" spc="-1" strike="noStrike">
                <a:solidFill>
                  <a:srgbClr val="ffffff"/>
                </a:solidFill>
                <a:latin typeface="Sylfaen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 cos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d -&gt; Coefficient of diffused refl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 -&gt; Intensity of point li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deal Diffuse Reflec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Lambertian Refl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057400"/>
            <a:ext cx="3047760" cy="3962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Lambert’s cosine la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the refl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 depends on the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illumin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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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normal vector to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 -&gt; Unit direction vector 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int light source from a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the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diffuse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iff = Ka Ia + Kd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 (N.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ular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ular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rror like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 depen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r high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deal reflector, angle of incidence =  angle of specular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733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5086440" cy="3019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ular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pec = W(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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 co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2286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ght emitting Sourc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133720" cy="152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5720" y="3686040"/>
            <a:ext cx="28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le Fl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11640" y="5181480"/>
            <a:ext cx="38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Light Bul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n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ulates  studio lighting effects by controlling light intensity in different dire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ot lighting is simulated in war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n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light direction using reflecting surface (only specula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otlighting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n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lights are used to control the amount of light emitted within a cone with apex at a point 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2009880" cy="2190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1828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n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ps are used to control the amount of light emitted by a source in various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295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sity atten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391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sity atten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76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G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6324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G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324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ight emitting 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int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ributed light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447920" y="0"/>
          <a:ext cx="473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473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f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use reflection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ular reflection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477120" y="1905120"/>
            <a:ext cx="2361600" cy="1522800"/>
            <a:chOff x="6477120" y="1905120"/>
            <a:chExt cx="2361600" cy="1522800"/>
          </a:xfrm>
        </p:grpSpPr>
        <p:sp>
          <p:nvSpPr>
            <p:cNvPr id="333" name=""/>
            <p:cNvSpPr/>
            <p:nvPr/>
          </p:nvSpPr>
          <p:spPr>
            <a:xfrm>
              <a:off x="6624000" y="1905120"/>
              <a:ext cx="280080" cy="3812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7120" y="3173760"/>
              <a:ext cx="2361600" cy="254160"/>
            </a:xfrm>
            <a:custGeom>
              <a:avLst/>
              <a:gdLst/>
              <a:ahLst/>
              <a:rect l="l" t="t" r="r" b="b"/>
              <a:pathLst>
                <a:path w="768" h="48">
                  <a:moveTo>
                    <a:pt x="0" y="48"/>
                  </a:moveTo>
                  <a:cubicBezTo>
                    <a:pt x="128" y="24"/>
                    <a:pt x="256" y="0"/>
                    <a:pt x="384" y="0"/>
                  </a:cubicBezTo>
                  <a:cubicBezTo>
                    <a:pt x="512" y="0"/>
                    <a:pt x="640" y="24"/>
                    <a:pt x="768" y="48"/>
                  </a:cubicBezTo>
                </a:path>
              </a:pathLst>
            </a:custGeom>
            <a:noFill/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509960" y="2819880"/>
              <a:ext cx="464400" cy="35352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09960" y="2159280"/>
              <a:ext cx="0" cy="10144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989760" y="3173760"/>
              <a:ext cx="519480" cy="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9960" y="3173760"/>
              <a:ext cx="523080" cy="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535160" y="2359440"/>
              <a:ext cx="294840" cy="7768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7242480" y="2365560"/>
              <a:ext cx="270360" cy="73512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7020720" y="2761200"/>
              <a:ext cx="492120" cy="33912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82840" y="2291040"/>
              <a:ext cx="651960" cy="8884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858000" y="4114800"/>
            <a:ext cx="1219320" cy="837000"/>
            <a:chOff x="6858000" y="4114800"/>
            <a:chExt cx="1219320" cy="837000"/>
          </a:xfrm>
        </p:grpSpPr>
        <p:sp>
          <p:nvSpPr>
            <p:cNvPr id="344" name=""/>
            <p:cNvSpPr/>
            <p:nvPr/>
          </p:nvSpPr>
          <p:spPr>
            <a:xfrm>
              <a:off x="6934320" y="4114800"/>
              <a:ext cx="457200" cy="69840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6858000" y="4114800"/>
              <a:ext cx="1219320" cy="837000"/>
              <a:chOff x="6858000" y="4114800"/>
              <a:chExt cx="1219320" cy="837000"/>
            </a:xfrm>
          </p:grpSpPr>
          <p:sp>
            <p:nvSpPr>
              <p:cNvPr id="346" name=""/>
              <p:cNvSpPr/>
              <p:nvPr/>
            </p:nvSpPr>
            <p:spPr>
              <a:xfrm>
                <a:off x="6858000" y="4812840"/>
                <a:ext cx="1219320" cy="138960"/>
              </a:xfrm>
              <a:custGeom>
                <a:avLst/>
                <a:gdLst/>
                <a:ahLst/>
                <a:rect l="l" t="t" r="r" b="b"/>
                <a:pathLst>
                  <a:path w="768" h="48">
                    <a:moveTo>
                      <a:pt x="0" y="48"/>
                    </a:moveTo>
                    <a:cubicBezTo>
                      <a:pt x="128" y="24"/>
                      <a:pt x="256" y="0"/>
                      <a:pt x="384" y="0"/>
                    </a:cubicBezTo>
                    <a:cubicBezTo>
                      <a:pt x="512" y="0"/>
                      <a:pt x="640" y="24"/>
                      <a:pt x="768" y="4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391160" y="4114800"/>
                <a:ext cx="533160" cy="69804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llumination mode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bient ligh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use refl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ular refl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10666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rror like reflections that add highlights to a shin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34340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int Light 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its light equally in all directions from a single poi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irection to the light from a point on a surface differs for different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105520" y="3886200"/>
            <a:ext cx="2286000" cy="2209680"/>
            <a:chOff x="5105520" y="3886200"/>
            <a:chExt cx="2286000" cy="2209680"/>
          </a:xfrm>
        </p:grpSpPr>
        <p:sp>
          <p:nvSpPr>
            <p:cNvPr id="227" name=""/>
            <p:cNvSpPr/>
            <p:nvPr/>
          </p:nvSpPr>
          <p:spPr>
            <a:xfrm flipV="1">
              <a:off x="5105520" y="6095160"/>
              <a:ext cx="2286000" cy="360"/>
            </a:xfrm>
            <a:prstGeom prst="line">
              <a:avLst/>
            </a:prstGeom>
            <a:noFill/>
            <a:ln w="7632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426708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9400" y="4267080"/>
              <a:ext cx="2286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400440" y="4267080"/>
              <a:ext cx="2286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172200" y="4267080"/>
              <a:ext cx="4572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9400" y="4267080"/>
              <a:ext cx="4572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29400" y="4267080"/>
              <a:ext cx="45720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629400" y="388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172200" y="4267080"/>
              <a:ext cx="45720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629400" y="4038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172200" y="4038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896440" y="563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8ae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30480" y="358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5257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23880" y="457200"/>
          <a:ext cx="67820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57200"/>
                    <a:ext cx="6782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ular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ular refl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f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7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04:18:05Z</dcterms:created>
  <dc:creator>Nishanth</dc:creator>
  <dc:description/>
  <dc:language>en-US</dc:language>
  <cp:lastModifiedBy>NEETHU_PU</cp:lastModifiedBy>
  <dcterms:modified xsi:type="dcterms:W3CDTF">2006-11-20T04:09:24Z</dcterms:modified>
  <cp:revision>48</cp:revision>
  <dc:subject/>
  <dc:title>                    Illumination Models and Surface Rendering Methods</dc:title>
</cp:coreProperties>
</file>